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0C3B-8A37-4E3A-8D1B-6D0A00250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F281-7881-49AC-9E30-C18BA945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3991-0317-452B-A228-E4EEC90A2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56B2-CAB2-44C7-B9DC-E434425FC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7D2A-6A7F-4EDA-9EC9-54D6AE21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7709-FEBE-4EFD-99D7-84617567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C03E-9A02-4988-B879-E62F2272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37D2-E1E1-4DB8-B134-780DE94F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7F27-7AFA-4DE6-BB9C-D101417F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08D1-EB26-4934-968C-1216765E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FB79-3478-46CA-B5C5-B0BAD10B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CEEA-7B3F-4F39-B762-24170924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17D9-8AD0-414A-B0C4-42B501D9C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oly Source of all that 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has spoken the eternal Wor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Jesus Chri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easelessly breathing the Spiri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to cre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1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trust in God’s lo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wisdom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ully revealed in the humani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Jesus Chri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present to 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the Spirit’s wor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Church and beyo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2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that God is call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whole cre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to a future of justice and pe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3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share in Christ’s risen lif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commit ourselves toda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rece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coming reign of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4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the only God, Three yet On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e all honour and glory and pra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ow and for ever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5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3:08:39Z</dcterms:created>
  <dc:creator>Anon Anon</dc:creator>
  <dc:description/>
  <dc:language>en-US</dc:language>
  <cp:lastModifiedBy>Anon Anon</cp:lastModifiedBy>
  <dcterms:modified xsi:type="dcterms:W3CDTF">2005-08-09T05:03:36Z</dcterms:modified>
  <cp:revision>7</cp:revision>
  <dc:subject/>
  <dc:title>PowerPoint Presentation</dc:title>
</cp:coreProperties>
</file>